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9074672"/>
        <c:axId val="28430639"/>
      </c:barChart>
      <c:catAx>
        <c:axId val="3907467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8430639"/>
        <c:crosses val="autoZero"/>
        <c:auto val="1"/>
        <c:lblAlgn val="ctr"/>
        <c:lblOffset val="100"/>
        <c:noMultiLvlLbl val="0"/>
      </c:catAx>
      <c:valAx>
        <c:axId val="2843063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907467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108E2-5DE5-49E7-A8DD-256A5C676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F624F-886D-4C38-8C05-6C5BE305B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174DD-EAB5-4E50-B74B-24A7F2D4A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C87CD-22D1-491C-953B-3C8F759A8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FDDCB-EDBB-42D6-8A2E-4E8E3BF83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170A2-DF5C-4866-9D15-1C7B60B92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C982B-34D0-423A-8540-AF1F95B40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51651-0806-4464-862D-67A589D1D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D9967-6508-4E3E-A313-7385F9B72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36988-83EC-4B7A-A744-BDC72786C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AC514-698F-4AD2-8BAC-C1A78D9D8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137D-43FC-4FD5-9DCF-F2976377A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E3299-B4D0-47C0-AD0B-AAEFA6A7B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565DB-8800-4D52-8FE4-300C2D3DA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603A9-713E-4BB7-9F4C-E71D86761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ECBD7-CA2D-4950-B6BE-BC00E3CC8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4D98F-F519-4CC9-BF8F-C362822C9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6C68D-47BB-46A4-87A6-628C23322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85447-7147-4E7C-B763-386697235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FF2B-35ED-4225-B56B-06F75E50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7865-5DF1-4177-8343-CB99414EC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5C5E4-84C1-4B66-95BA-67A71DFE9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54DA-190E-4F80-AF12-369CD7C11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4603-4B6E-4C3F-998E-C433491F8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1AAE1D-3314-42D6-B827-C672F159679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A1C85-D737-46A1-ABDA-819EDCCF90B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